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4BF-4128-4D5F-8596-B44E567E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014-9366-4A71-BD64-E059DFB3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C13-56E8-4E3F-B4D1-FAC52D34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A6A-4E93-48D8-95EE-81CF7FB3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CFE4-20DD-4783-BA7A-F7F01BD6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35B6-BCB8-4DE8-9404-7B26EF3B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9006-0347-4DE0-8839-C444BBBD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5C78-4AD2-489D-88E0-830F92E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AE7A-347F-4A4C-874C-3D29A50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6460-6F50-4596-860D-BFE8B28B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ABBA-E38C-4456-88B7-2301403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954-7FBD-40D5-B590-1A31BE4A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A6AC-D974-4614-8093-631FA7A4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23EF-488A-47F2-83D1-D343E8B7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81E8-CAFF-41BF-BDB8-9562948A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A3AE-1085-4481-A364-9145DCDD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8287-006D-4B28-A093-D233AFAC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E4C-EE93-467A-8F58-A4462C4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217-11E6-4291-9228-110FC63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BDC-D021-477C-B3A5-450277EA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767-343E-4CE5-A216-4FFA2ABE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957-ADDD-44E8-A72A-F72AAE2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0AA-54F5-4B14-9A32-3F006A9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9E0-1FD7-433D-9239-9E03E509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5DF4-0728-401C-B456-81D924CEE0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8B27-9DEE-4E83-AABF-1B41E57581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nit 9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 x 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 x 3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¼ x 2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teps: Keep Change 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Keep the first fraction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division sign to a multiplicatio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p the second f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if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et’s try some together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76520" y="1600200"/>
          <a:ext cx="160020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002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676520" y="3886200"/>
          <a:ext cx="1447560" cy="12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886200"/>
                    <a:ext cx="14475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actice on your own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90720" y="1752480"/>
          <a:ext cx="120636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1206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019920" y="1828800"/>
          <a:ext cx="120636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828800"/>
                    <a:ext cx="1206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733920" y="4114800"/>
          <a:ext cx="115560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114800"/>
                    <a:ext cx="1155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400" spc="-1" strike="noStrike">
                <a:solidFill>
                  <a:srgbClr val="006699"/>
                </a:solidFill>
                <a:latin typeface="Times New Roman"/>
              </a:rPr>
              <a:t>Mixed Number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improper fractions first, then follow previous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3352680"/>
          <a:ext cx="139068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390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581280" y="3255840"/>
          <a:ext cx="1600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55840"/>
                    <a:ext cx="1600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010280" y="3200400"/>
          <a:ext cx="106704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200400"/>
                    <a:ext cx="106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askerville Old Face"/>
              </a:rPr>
              <a:t>Objective: To divide fractions &amp; mixed numbers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cc6600"/>
                </a:solidFill>
                <a:latin typeface="Times New Roman"/>
              </a:rPr>
              <a:t>Exit Ticke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1371600"/>
          <a:ext cx="11174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1117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219320" y="3116160"/>
          <a:ext cx="1523880" cy="9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116160"/>
                    <a:ext cx="15238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295280" y="4876920"/>
          <a:ext cx="1346400" cy="13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76920"/>
                    <a:ext cx="13464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mework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book P. 93 12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0:59:01Z</dcterms:created>
  <dc:creator>ccps</dc:creator>
  <dc:description/>
  <dc:language>en-US</dc:language>
  <cp:lastModifiedBy>ccps</cp:lastModifiedBy>
  <dcterms:modified xsi:type="dcterms:W3CDTF">2010-03-29T12:33:00Z</dcterms:modified>
  <cp:revision>8</cp:revision>
  <dc:subject/>
  <dc:title>Obj 5.4:  To divide fractions &amp; mixed numbers.</dc:title>
</cp:coreProperties>
</file>